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88570"/>
        <c:axId val="70523996"/>
      </c:barChart>
      <c:catAx>
        <c:axId val="35588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23996"/>
        <c:crosses val="autoZero"/>
        <c:auto val="1"/>
        <c:lblAlgn val="ctr"/>
        <c:lblOffset val="100"/>
        <c:noMultiLvlLbl val="0"/>
      </c:catAx>
      <c:valAx>
        <c:axId val="70523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88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F27-E135-4DBB-836C-69CC4D61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913-45D3-45F7-8403-6148228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589-D988-4D6D-8A1E-87D6C018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75A-D3D3-4B81-9BC2-148499F4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5D2-2C30-46B6-97F2-493CC18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409-43FB-4773-BC25-470EFF64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BF2-43DD-46B4-89F4-816E030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C6D-71FF-484E-82AD-EAEFB701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C12-8428-4025-8625-B79AA3A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2BC-106E-47AA-9F37-91B8370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C8A-4CE0-4030-B5B9-5F0BF56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172-254D-4A85-BC60-334B2BA6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AE40F-0549-4DF9-99B6-CDAD8DC481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