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02411"/>
        <c:axId val="81715005"/>
      </c:barChart>
      <c:catAx>
        <c:axId val="25702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15005"/>
        <c:crosses val="autoZero"/>
        <c:auto val="1"/>
        <c:lblAlgn val="ctr"/>
        <c:lblOffset val="100"/>
        <c:noMultiLvlLbl val="0"/>
      </c:catAx>
      <c:valAx>
        <c:axId val="81715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02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BBF-F66E-40BB-93F0-03C9D42B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D07-8451-4FFC-833F-198E65C6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2CC-C9F5-4C7C-8AA9-C097256D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323-6D8C-4A9B-B51E-BC662ED0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A02-B3FD-47CB-AEEF-8B5D6136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730-3C78-4F4B-BC47-48A3F289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07F-C236-44BC-BEDB-7118F6EF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537-9E22-402F-984F-5933A02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C3F-A3E2-4030-B72E-CEC67E19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BEA-8744-475F-B326-F59CD07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080-C105-4128-AA78-AB9636F4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A5F-EC17-46E0-B2F1-D2EAE5B3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DEEF4-4091-4A91-B787-2A05E6BC8E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