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62211"/>
        <c:axId val="70477305"/>
      </c:barChart>
      <c:catAx>
        <c:axId val="73062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77305"/>
        <c:crosses val="autoZero"/>
        <c:auto val="1"/>
        <c:lblAlgn val="ctr"/>
        <c:lblOffset val="100"/>
        <c:noMultiLvlLbl val="0"/>
      </c:catAx>
      <c:valAx>
        <c:axId val="70477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62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44A-1247-4867-9976-A764012E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94E-F3A4-466A-9DFB-7FEB2691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346-69E0-47D7-AF6D-AD561D2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817-D53A-488D-A7A0-8664E48C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37D-1CFB-4A9C-92BE-83603C20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7AB-04A7-4AF4-9EE4-B4BE274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AFE-943A-4D98-84CB-FE6A0F3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13A-BB7A-4BB1-AA01-535087B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22A-146D-4518-81F8-EE23373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FE6-ED48-4973-94C5-FA136FF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FFA-735F-411C-A9CB-6AB61C3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F4C-BAC0-4D82-B4FD-889163D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58116-9769-45F6-A12E-2C5B87D6C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