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25389"/>
        <c:axId val="17163727"/>
      </c:barChart>
      <c:catAx>
        <c:axId val="964253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63727"/>
        <c:crosses val="autoZero"/>
        <c:auto val="1"/>
        <c:lblAlgn val="ctr"/>
        <c:lblOffset val="100"/>
        <c:noMultiLvlLbl val="0"/>
      </c:catAx>
      <c:valAx>
        <c:axId val="171637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253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10B-2C05-4B52-8C84-DE0984E6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1ECA-94DF-4E24-89C1-C029E8EBE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D36F-EE1B-46E4-8DED-B8FEA936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590-F323-48F9-A5D4-380E9230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73E7-7CB8-4AD8-B7C7-1B92580C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BC62-A008-4302-8E9F-076E6B4E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2E86-157A-4D1D-BC65-5D07B238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8806-06D2-498F-B996-6677F8DF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35CC-7E2A-4CEA-B227-645B13A0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BE6-7B40-421C-AFA2-FC5A56CB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2B29-5882-4FD8-8444-E45211B6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7E1-D14E-4C66-9B89-4378F6FE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556A5-59D4-4BB4-913D-A568E4A1E3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