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74437"/>
        <c:axId val="48416705"/>
      </c:barChart>
      <c:catAx>
        <c:axId val="27674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6705"/>
        <c:crosses val="autoZero"/>
        <c:auto val="1"/>
        <c:lblAlgn val="ctr"/>
        <c:lblOffset val="100"/>
        <c:noMultiLvlLbl val="0"/>
      </c:catAx>
      <c:valAx>
        <c:axId val="48416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4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049-8FAD-40C0-9A5B-6661717D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D5B-0410-4F09-98B3-D4554AD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CFD-BC6D-41CE-808B-D4D2405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718-77F9-48F3-B578-9229AD0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8B5-9B32-454F-AF51-EAEA291D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6D7-A190-4A00-B06F-0AFAD49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EA7-CBDC-4452-8383-A067FF1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A38-51F7-44F7-AE95-57DA078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190-EB6B-4C61-B48B-AD18418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B5F-EA67-4D45-9F12-969E934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1F7-FF6F-4990-995F-8B938C6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C4C-449F-4EC0-B4EC-89FE6E6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93FA7-0686-4F15-BBCB-C0E13E757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