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002802"/>
        <c:axId val="79405101"/>
      </c:barChart>
      <c:catAx>
        <c:axId val="330028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405101"/>
        <c:crosses val="autoZero"/>
        <c:auto val="1"/>
        <c:lblAlgn val="ctr"/>
        <c:lblOffset val="100"/>
        <c:noMultiLvlLbl val="0"/>
      </c:catAx>
      <c:valAx>
        <c:axId val="794051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0028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54F6-F83A-4B4F-95D1-725ACA1B6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5883-4231-4975-955E-E99727008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27B7-0C07-4810-BB00-A66B22505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2F99-590B-4B78-8C14-AB53683E1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53AC-2FD4-48E3-BDF2-76A880BA6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1EF4-7B12-4EE0-870E-1E30226A9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187E-8CFF-4F6B-8885-2D9C3D220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A8A3-5B65-45CE-8551-47BCDACF0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7CF4-12C8-4410-9986-4DA1DEB33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76FD-07E7-45E1-9D30-7A5B1615D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8944-706B-435A-B757-6CCBBFE97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4723-2504-4E6F-8943-7ED162E6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6C661C-911A-4287-97B3-67113A8DA20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