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447655"/>
        <c:axId val="88841052"/>
      </c:barChart>
      <c:catAx>
        <c:axId val="454476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41052"/>
        <c:crosses val="autoZero"/>
        <c:auto val="1"/>
        <c:lblAlgn val="ctr"/>
        <c:lblOffset val="100"/>
        <c:noMultiLvlLbl val="0"/>
      </c:catAx>
      <c:valAx>
        <c:axId val="888410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476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5EFB-BBAB-4AA3-AB64-777E5318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5DE6-CFDC-4EE5-9370-8FDCCCF9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117E-9F6B-4098-A3A9-A6DA4A43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E52A-94B7-43F6-BF10-547290DA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148B-CDEA-4AE4-8E4B-6938E855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C7EF-2221-45EA-8AC6-9221164D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DC0F-CB4B-4A93-91ED-512247D6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4F2E-5F85-4371-A42D-7F19CA79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8BE7-ED20-4FC0-B844-2A4EDA69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58A5-2CE9-4129-BCAC-684BC62C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CCD0-5E0B-464D-B3CB-109AEDF8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6DFD-B273-4D8C-BC1B-CABA7CE8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C59C7-089D-4AC4-89F4-8A0D24F21B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