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43917"/>
        <c:axId val="56337884"/>
      </c:barChart>
      <c:catAx>
        <c:axId val="12843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37884"/>
        <c:crosses val="autoZero"/>
        <c:auto val="1"/>
        <c:lblAlgn val="ctr"/>
        <c:lblOffset val="100"/>
        <c:noMultiLvlLbl val="0"/>
      </c:catAx>
      <c:valAx>
        <c:axId val="563378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43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F49-7416-491C-B983-8B356787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79A-FBAD-454B-A84E-42A53EFE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4C0-E85A-4778-8291-11518802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3C45-EE57-4F68-96B6-26AF6F5C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E6FE-6F89-44A6-9708-B2DCDCD4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853-2751-4941-8C10-841BB364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E90-AF81-410A-AA31-26413AEA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981-3F0E-4AA3-AF5E-10F4619E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FAAA-5DBC-4F37-9A3C-FB1BAEEC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1376-242D-48D3-9FDA-AF66EECF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CA7-859E-44BB-86C8-60A99997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763-836E-48A1-964A-8B31B007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CFAB3-20D1-4CB3-BC92-83EFC4DBF9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