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89736"/>
        <c:axId val="60545501"/>
      </c:barChart>
      <c:catAx>
        <c:axId val="75789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5501"/>
        <c:crosses val="autoZero"/>
        <c:auto val="1"/>
        <c:lblAlgn val="ctr"/>
        <c:lblOffset val="100"/>
        <c:noMultiLvlLbl val="0"/>
      </c:catAx>
      <c:valAx>
        <c:axId val="60545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9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2D8-373E-4F39-A721-E38DB232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A65-2853-4EA9-AB39-AD9EC69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1FD-0D76-42F4-B84B-B0D50432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F2E-AD6B-4011-B107-FA1192E6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07B-ED10-4D12-B8D2-95897F3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D9C-C6E8-4A4E-AD89-F07F6A16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39B-0A4B-4CD6-A88F-2B774BF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3D7-9297-493D-9E60-D7CA5E3B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352-2D50-4B51-85E8-11D4ACB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C0B-505B-4290-96EA-C6EFB5B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F5B-DF35-46D7-958A-A9DBBE6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9A6-3C6F-46BA-B632-718803A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E1828-F46E-477B-98C9-D20E76387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