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98305"/>
        <c:axId val="10506115"/>
      </c:barChart>
      <c:catAx>
        <c:axId val="79798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6115"/>
        <c:crosses val="autoZero"/>
        <c:auto val="1"/>
        <c:lblAlgn val="ctr"/>
        <c:lblOffset val="100"/>
        <c:noMultiLvlLbl val="0"/>
      </c:catAx>
      <c:valAx>
        <c:axId val="10506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98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317-310D-458D-BA60-E713681E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704-01FA-44B1-99FD-47EC1891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1AC-3AA5-4726-ADC4-1F04920F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D1C-D7A9-4191-A565-B886DA80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2DD-5B2A-4FD8-B59F-D3844963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76C-2B87-45DA-9C07-8C86240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56C-C230-4F38-BA45-E2D2BB66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64E-BFF7-4874-B158-92738EDE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F02-C983-42D2-9640-E31B71C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83E-5E9C-4C7E-B311-F27FE02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BC6-7E84-4BD5-912C-A42CAD5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026-DAB2-4DDC-91BE-1A682A35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7CFA6-12FD-472F-999D-8A98694C1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