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47398"/>
        <c:axId val="41930218"/>
      </c:barChart>
      <c:catAx>
        <c:axId val="30547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30218"/>
        <c:crosses val="autoZero"/>
        <c:auto val="1"/>
        <c:lblAlgn val="ctr"/>
        <c:lblOffset val="100"/>
        <c:noMultiLvlLbl val="0"/>
      </c:catAx>
      <c:valAx>
        <c:axId val="41930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47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91B-ACF9-417C-9CA9-232C223B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25EB-88F2-4EAD-8758-64A6AFD7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908-0C78-4CE8-ADA2-9A3DF130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744-1DF4-4C51-B4D5-CA5C5BFA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77F4-9836-4A78-A839-75AC0386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6822-A3A3-447B-B438-AA7D346A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76E3-CC50-4361-95EC-B52C0C12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6E1-CF31-49C1-A52C-C5523CDF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EBD-2C1D-4DAB-96D9-A9E7F00A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2BE-4120-419E-BC02-78D7C88E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E22-E899-49A0-9C47-543DFC7E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ABA-1FC5-4F28-84BB-25CA7E66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6304C-42D0-4A02-BFAD-66A13F6DF4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