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95206"/>
        <c:axId val="52122027"/>
      </c:barChart>
      <c:catAx>
        <c:axId val="35395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2027"/>
        <c:crosses val="autoZero"/>
        <c:auto val="1"/>
        <c:lblAlgn val="ctr"/>
        <c:lblOffset val="100"/>
        <c:noMultiLvlLbl val="0"/>
      </c:catAx>
      <c:valAx>
        <c:axId val="52122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95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898-AFC9-4912-A716-D828CF32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DA5-F52D-4E3F-B7E2-83D71772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E6F-B023-499D-8ECB-F138C1EF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575-EACF-4BD2-9339-37671EC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267-C881-436C-BBE6-FF3122A1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8FC-D106-4BC8-8AAA-6CDF4E51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1DB-B246-4829-BF38-67197A73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8DD-390D-4CE9-9C75-7EA36AEF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DFE-CC8D-4803-A9AA-BE11ACC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4EC-BC68-4237-AD04-2C616EC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DD0-300C-4B44-B79A-4847ACC1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E4F-8B08-4E64-BE82-A71B063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05772-5309-4776-905A-8D7BDEADEA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