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15576"/>
        <c:axId val="4096000"/>
      </c:barChart>
      <c:catAx>
        <c:axId val="43815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6000"/>
        <c:crosses val="autoZero"/>
        <c:auto val="1"/>
        <c:lblAlgn val="ctr"/>
        <c:lblOffset val="100"/>
        <c:noMultiLvlLbl val="0"/>
      </c:catAx>
      <c:valAx>
        <c:axId val="4096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15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AD8-937E-4B0B-B0ED-4E273588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CD2-1052-4477-B0A1-D72A59A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A13-A904-454E-881A-BC14D0C8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108-7689-4DC9-906F-372C1B56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688-1C11-4991-A1DD-77CCFEB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654-AA9E-4C9B-9427-6081764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6F-F39D-48A0-A1ED-07C78A0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A10-3799-471D-B64B-B1614891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28B-996A-433C-B316-D64021B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1E6-0318-497F-AF55-0E585F91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F0D-8ACB-4CD3-9918-54708F2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04D-5535-47E3-BAB4-76D9A17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5CEB-930B-415B-9BE0-E4CB756C3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