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67844"/>
        <c:axId val="42282397"/>
      </c:barChart>
      <c:catAx>
        <c:axId val="630678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82397"/>
        <c:crosses val="autoZero"/>
        <c:auto val="1"/>
        <c:lblAlgn val="ctr"/>
        <c:lblOffset val="100"/>
        <c:noMultiLvlLbl val="0"/>
      </c:catAx>
      <c:valAx>
        <c:axId val="422823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678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1CB-7C07-4D1D-B8C8-AE92135D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288-35E5-4F25-9C69-BBCA1114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DFE-81B7-4BA0-953F-6C8DAC65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60C8-FFC2-4420-9A1C-E4853FBE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AC0-AEC3-486B-A7A7-607BBA98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39C-3AF8-4B01-AD42-BBEE5ED8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AF15-2904-4EE4-9A83-704C0FBF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536-4A9A-4A66-92FD-A0BFC634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52C0-65A8-400C-B25B-0069FC7A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B2DB-B2E4-48A1-9DD5-078EB8E2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3B5-6881-4109-9A82-3E662318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A740-7A66-4C50-AB10-6E080C6C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1ECC2-CB15-43A1-92B1-570DC4A3B3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